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15C-F835-4509-8991-DAE08FFE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CBA-84E3-4A3C-9CE4-D5F1E45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97E-F824-44F3-B56F-77729782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BCD-6C98-4337-A253-AFD7432F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356-9ABB-46B1-905A-709E9F0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1F5-5FDA-4F48-A039-FEE69B70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D43-385C-4693-AC09-BEE8936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4D3-1C8D-4319-BEBA-8ED413A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E20-BD79-4E8D-9D33-482454C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215-AD37-4BC5-8348-ECAFB22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F5D-971A-4F01-81EE-15C10E3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0F2-7184-402B-B54F-49D9175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E49-4282-4062-B24A-BB6DE0E95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Bradley Hand ITC"/>
              </a:rPr>
              <a:t>The Scientific Rev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Discoverin’ New Stuff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1625760"/>
            <a:ext cx="61722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Revolution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ers in 1500’s said you need Math an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a revolution in the way of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452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askerville Old Face"/>
              </a:rPr>
              <a:t>People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: Polish, Had a heliocentric view point. With a circular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Kepler: German, agreed w/ Copernicus, said planets move in ellipses (ovals). Modern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Galilei: Italian, challenged modern beliefs of time, instruments are important to humans, went against catholic church’s views, take words back, house ar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67680" y="0"/>
            <a:ext cx="1876320" cy="2819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5943600" y="21333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315200" y="2362320"/>
            <a:ext cx="1828800" cy="229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210440" y="4486320"/>
            <a:ext cx="1933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Old English Text MT"/>
              </a:rPr>
              <a:t>The Early T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used/studied numbers, stars &amp; planets looking at their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ience is an organized study of the natural world &amp; how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Science= three differen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30960" y="990720"/>
            <a:ext cx="2813040" cy="32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378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3467160"/>
            <a:ext cx="414360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Ma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was used for two main things back in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38480" y="76212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of time by observing patterns in the sky/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eeping track of time they were able to predict season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4800600" cy="343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81560" y="3828960"/>
            <a:ext cx="4762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tarted figuring out how to perform more accurate surg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nervous system by performing acu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s, using them to help cure or treat ill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10400" y="304812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Early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s= reason is the only way to understand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veloped theories or an explanation of how/ why something hap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to be something you can observe, seems to fit, but not alway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29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8320" y="3641760"/>
            <a:ext cx="4495680" cy="321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86400" y="2057400"/>
            <a:ext cx="3657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tle (Gr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nature and collected many things ( information &amp; i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lassified the different plants and animals into groups based on similarities and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961920"/>
            <a:ext cx="27763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0000"/>
                </a:solidFill>
                <a:uFillTx/>
                <a:latin typeface="Chiller"/>
              </a:rPr>
              <a:t>Greek Proble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dn’t test or experiment new ideas to see if they were right/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ideas were false because they were based on “common sense”, not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tolemy said that the planets and the Sun moved around the Earth (geocentric), learned about 1,400 years later he w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WRO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10160" y="3581280"/>
            <a:ext cx="2733840" cy="32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32400" y="60948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62720" y="3200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askerville Old Face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6095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ople focused on theology rather tha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Greek and Roman writing…no Goo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rabs and Jews preserved works. Indian and Persian math. No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100’s rise of science again in 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rise in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xploration furthere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596412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185E-006 L 0.8875 -0.00139 E">
                                      <p:cBhvr>
                                        <p:cTn id="2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6:44:14Z</dcterms:created>
  <dc:creator>jobert</dc:creator>
  <dc:description/>
  <dc:language>en-US</dc:language>
  <cp:lastModifiedBy>jobert</cp:lastModifiedBy>
  <dcterms:modified xsi:type="dcterms:W3CDTF">2012-12-16T22:15:55Z</dcterms:modified>
  <cp:revision>9</cp:revision>
  <dc:subject/>
  <dc:title>The Scientific Revolution</dc:title>
</cp:coreProperties>
</file>